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75A-3DCA-4D05-AA21-FD46CC3F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3A3-2387-4C5B-BDF7-51B9004A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C38-1A8A-4A30-B671-D7C438F2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2D9-6625-475E-AE9A-71BCCBA0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5D4-D9D2-483D-87B5-846EC580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D8EA-D0CE-4254-AF26-2E71E249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FF1-4490-4F95-88BD-13E8CDF5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273E-2E6E-4501-9C21-E922E918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FBD-C70E-428D-B3E1-1CBDB61C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74C-7A15-4569-9971-C252E548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6C5-DF38-450D-B349-6B497EF8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F4C-2198-4C14-82A2-E93C31FC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D9C8CD28-2B12-4EFC-8D37-EB390D13A9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921800" cy="52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Lesson7: 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447920" y="762120"/>
            <a:ext cx="58672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Play a game: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ct and gues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4382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i="1" lang="en-US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36147" dir="2700000" blurRad="0" rotWithShape="0">
                    <a:srgbClr val="b2b2b2">
                      <a:alpha val="50000"/>
                    </a:srgbClr>
                  </a:outerShdw>
                </a:effectLst>
                <a:latin typeface="宋体"/>
              </a:rPr>
              <a:t>What do you do in the evening?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36147" dir="2700000" blurRad="0" rotWithShape="0">
                  <a:srgbClr val="b2b2b2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4343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小组合作，读文并写出答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79000" y="5181480"/>
            <a:ext cx="7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选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u=2774846825,516837371&amp;fm=23&amp;gp=0"/>
          <p:cNvPicPr/>
          <p:nvPr/>
        </p:nvPicPr>
        <p:blipFill>
          <a:blip r:embed="rId1"/>
          <a:stretch/>
        </p:blipFill>
        <p:spPr>
          <a:xfrm>
            <a:off x="7162920" y="44197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f"/>
          <p:cNvPicPr/>
          <p:nvPr/>
        </p:nvPicPr>
        <p:blipFill>
          <a:blip r:embed="rId2"/>
          <a:stretch/>
        </p:blipFill>
        <p:spPr>
          <a:xfrm>
            <a:off x="4724280" y="4343400"/>
            <a:ext cx="1905120" cy="1577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3352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o my 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ad a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rite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3352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raw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6095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ing a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6095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ay a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1520" y="3352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atch 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0492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In the evening, I 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304920"/>
            <a:ext cx="914400" cy="685800"/>
          </a:xfrm>
          <a:custGeom>
            <a:avLst/>
            <a:gdLst/>
            <a:ahLst/>
            <a:rect l="l" t="t" r="r" b="b"/>
            <a:pathLst>
              <a:path w="1439" h="1079">
                <a:moveTo>
                  <a:pt x="0" y="412"/>
                </a:moveTo>
                <a:lnTo>
                  <a:pt x="550" y="412"/>
                </a:lnTo>
                <a:lnTo>
                  <a:pt x="719" y="0"/>
                </a:lnTo>
                <a:lnTo>
                  <a:pt x="889" y="412"/>
                </a:lnTo>
                <a:lnTo>
                  <a:pt x="1439" y="412"/>
                </a:lnTo>
                <a:lnTo>
                  <a:pt x="994" y="667"/>
                </a:lnTo>
                <a:lnTo>
                  <a:pt x="1164" y="1079"/>
                </a:lnTo>
                <a:lnTo>
                  <a:pt x="719" y="825"/>
                </a:lnTo>
                <a:lnTo>
                  <a:pt x="275" y="1079"/>
                </a:lnTo>
                <a:lnTo>
                  <a:pt x="444" y="667"/>
                </a:lnTo>
                <a:lnTo>
                  <a:pt x="0" y="41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u=1755039292,2638964036&amp;fm=11&amp;gp=0"/>
          <p:cNvPicPr/>
          <p:nvPr/>
        </p:nvPicPr>
        <p:blipFill>
          <a:blip r:embed="rId3"/>
          <a:stretch/>
        </p:blipFill>
        <p:spPr>
          <a:xfrm>
            <a:off x="6705720" y="1600200"/>
            <a:ext cx="2133360" cy="1679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095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isten to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0" y="1452600"/>
            <a:ext cx="2268360" cy="1519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95600" y="1523880"/>
            <a:ext cx="1595520" cy="1551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729320" y="1600200"/>
            <a:ext cx="2052360" cy="1619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309600" y="4114800"/>
            <a:ext cx="2095560" cy="1600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2671920" y="4267080"/>
            <a:ext cx="1595160" cy="15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u=2774846825,516837371&amp;fm=23&amp;gp=0"/>
          <p:cNvPicPr/>
          <p:nvPr/>
        </p:nvPicPr>
        <p:blipFill>
          <a:blip r:embed="rId1"/>
          <a:stretch/>
        </p:blipFill>
        <p:spPr>
          <a:xfrm>
            <a:off x="6019920" y="48006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f"/>
          <p:cNvPicPr/>
          <p:nvPr/>
        </p:nvPicPr>
        <p:blipFill>
          <a:blip r:embed="rId2"/>
          <a:stretch/>
        </p:blipFill>
        <p:spPr>
          <a:xfrm>
            <a:off x="3733920" y="4800600"/>
            <a:ext cx="1671480" cy="1384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38098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o my 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3809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ad a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6324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rite a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3809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raw a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6248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ing a s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6248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y a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38098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atch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28600"/>
            <a:ext cx="4038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228600"/>
            <a:ext cx="2438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et's sing.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9144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his is the way I ______, in the even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" cy="685800"/>
          </a:xfrm>
          <a:custGeom>
            <a:avLst/>
            <a:gdLst/>
            <a:ahLst/>
            <a:rect l="l" t="t" r="r" b="b"/>
            <a:pathLst>
              <a:path w="1439" h="1079">
                <a:moveTo>
                  <a:pt x="0" y="412"/>
                </a:moveTo>
                <a:lnTo>
                  <a:pt x="550" y="412"/>
                </a:lnTo>
                <a:lnTo>
                  <a:pt x="719" y="0"/>
                </a:lnTo>
                <a:lnTo>
                  <a:pt x="889" y="412"/>
                </a:lnTo>
                <a:lnTo>
                  <a:pt x="1439" y="412"/>
                </a:lnTo>
                <a:lnTo>
                  <a:pt x="994" y="667"/>
                </a:lnTo>
                <a:lnTo>
                  <a:pt x="1164" y="1079"/>
                </a:lnTo>
                <a:lnTo>
                  <a:pt x="719" y="825"/>
                </a:lnTo>
                <a:lnTo>
                  <a:pt x="275" y="1079"/>
                </a:lnTo>
                <a:lnTo>
                  <a:pt x="444" y="667"/>
                </a:lnTo>
                <a:lnTo>
                  <a:pt x="0" y="41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u=1755039292,2638964036&amp;fm=11&amp;gp=0"/>
          <p:cNvPicPr/>
          <p:nvPr/>
        </p:nvPicPr>
        <p:blipFill>
          <a:blip r:embed="rId3"/>
          <a:stretch/>
        </p:blipFill>
        <p:spPr>
          <a:xfrm>
            <a:off x="6934320" y="2057400"/>
            <a:ext cx="2057400" cy="1487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04920" y="2138400"/>
            <a:ext cx="1927080" cy="129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519280" y="2057400"/>
            <a:ext cx="1671840" cy="1625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576680" y="1828800"/>
            <a:ext cx="2205000" cy="1739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995400" y="4419720"/>
            <a:ext cx="1824120" cy="180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u=1044306658,1768772924&amp;fm=23&amp;gp=0"/>
          <p:cNvPicPr/>
          <p:nvPr/>
        </p:nvPicPr>
        <p:blipFill>
          <a:blip r:embed="rId1"/>
          <a:stretch/>
        </p:blipFill>
        <p:spPr>
          <a:xfrm>
            <a:off x="4343400" y="325764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20880" y="914400"/>
            <a:ext cx="704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1. Sing your song to your par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59320" y="2971800"/>
            <a:ext cx="10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教给家长读短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80240" y="2841480"/>
            <a:ext cx="1922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8240" y="152280"/>
            <a:ext cx="382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未命名"/>
          <p:cNvPicPr/>
          <p:nvPr/>
        </p:nvPicPr>
        <p:blipFill>
          <a:blip r:embed="rId1"/>
          <a:stretch/>
        </p:blipFill>
        <p:spPr>
          <a:xfrm>
            <a:off x="1143000" y="380880"/>
            <a:ext cx="6829560" cy="423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5334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e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791320" y="1676520"/>
            <a:ext cx="1371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828800"/>
            <a:ext cx="883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is is the way I 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read a book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on a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Sunday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mor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95480" y="152280"/>
            <a:ext cx="27432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未命名"/>
          <p:cNvPicPr/>
          <p:nvPr/>
        </p:nvPicPr>
        <p:blipFill>
          <a:blip r:embed="rId1"/>
          <a:stretch/>
        </p:blipFill>
        <p:spPr>
          <a:xfrm>
            <a:off x="1143000" y="457200"/>
            <a:ext cx="6886440" cy="4343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8120" y="54100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my 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791320" y="1676520"/>
            <a:ext cx="1371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057400"/>
            <a:ext cx="883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is is the way I 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do my homework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on a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Monday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mor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152280"/>
            <a:ext cx="27432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6"/>
          <p:cNvPicPr/>
          <p:nvPr/>
        </p:nvPicPr>
        <p:blipFill>
          <a:blip r:embed="rId1"/>
          <a:stretch/>
        </p:blipFill>
        <p:spPr>
          <a:xfrm>
            <a:off x="1295280" y="457200"/>
            <a:ext cx="6810480" cy="4286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124080" y="541008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r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e a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562720"/>
            <a:ext cx="1524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P1060679"/>
          <p:cNvPicPr/>
          <p:nvPr/>
        </p:nvPicPr>
        <p:blipFill>
          <a:blip r:embed="rId1"/>
          <a:stretch/>
        </p:blipFill>
        <p:spPr>
          <a:xfrm>
            <a:off x="1371600" y="838080"/>
            <a:ext cx="6488280" cy="4865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58672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58672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raw a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5"/>
          <p:cNvPicPr/>
          <p:nvPr/>
        </p:nvPicPr>
        <p:blipFill>
          <a:blip r:embed="rId1"/>
          <a:stretch/>
        </p:blipFill>
        <p:spPr>
          <a:xfrm>
            <a:off x="1371600" y="609480"/>
            <a:ext cx="6838920" cy="4210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54100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draw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a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0"/>
            <a:ext cx="7238880" cy="9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i="1" lang="zh-CN" sz="4400" spc="-1" strike="noStrike">
                <a:solidFill>
                  <a:srgbClr val="6600ff"/>
                </a:solidFill>
                <a:latin typeface="Times New Roman"/>
                <a:ea typeface="华文行楷"/>
              </a:rPr>
              <a:t>Let’s cha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Do,  do,           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do my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Draw,  draw,   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draw a picture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Read,  read,     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ead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Write,  write,   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write a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Watch,  watch,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watch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Play,   play,      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play a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20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20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未命名"/>
          <p:cNvPicPr/>
          <p:nvPr/>
        </p:nvPicPr>
        <p:blipFill>
          <a:blip r:embed="rId1"/>
          <a:stretch/>
        </p:blipFill>
        <p:spPr>
          <a:xfrm>
            <a:off x="6553080" y="228600"/>
            <a:ext cx="1600200" cy="1009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6"/>
          <p:cNvPicPr/>
          <p:nvPr/>
        </p:nvPicPr>
        <p:blipFill>
          <a:blip r:embed="rId2"/>
          <a:stretch/>
        </p:blipFill>
        <p:spPr>
          <a:xfrm>
            <a:off x="6553080" y="3352680"/>
            <a:ext cx="1676520" cy="110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未命名"/>
          <p:cNvPicPr/>
          <p:nvPr/>
        </p:nvPicPr>
        <p:blipFill>
          <a:blip r:embed="rId3"/>
          <a:stretch/>
        </p:blipFill>
        <p:spPr>
          <a:xfrm>
            <a:off x="6553080" y="2286000"/>
            <a:ext cx="1676520" cy="104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012"/>
          <p:cNvPicPr/>
          <p:nvPr/>
        </p:nvPicPr>
        <p:blipFill>
          <a:blip r:embed="rId4"/>
          <a:stretch/>
        </p:blipFill>
        <p:spPr>
          <a:xfrm>
            <a:off x="6629400" y="4419720"/>
            <a:ext cx="1676520" cy="1239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5"/>
          <p:cNvPicPr/>
          <p:nvPr/>
        </p:nvPicPr>
        <p:blipFill>
          <a:blip r:embed="rId5"/>
          <a:stretch/>
        </p:blipFill>
        <p:spPr>
          <a:xfrm>
            <a:off x="6553080" y="1295280"/>
            <a:ext cx="1600200" cy="984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未命12"/>
          <p:cNvPicPr/>
          <p:nvPr/>
        </p:nvPicPr>
        <p:blipFill>
          <a:blip r:embed="rId6"/>
          <a:stretch/>
        </p:blipFill>
        <p:spPr>
          <a:xfrm>
            <a:off x="6629400" y="5562720"/>
            <a:ext cx="1552680" cy="98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4T09:29:52Z</dcterms:created>
  <dc:creator/>
  <dc:description/>
  <dc:language>en-US</dc:language>
  <cp:lastModifiedBy/>
  <dcterms:modified xsi:type="dcterms:W3CDTF">2017-09-14T11:55:53Z</dcterms:modified>
  <cp:revision>6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